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204-5F22-4483-A4EE-3E89D7A0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808-690C-46FD-9C7F-515D95A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755F1-A167-41F4-8350-61205F05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70FAE-E6D2-4165-B330-046C21EF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022A0-3AA8-44A7-B95A-E0819007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C3EF9-36CC-4892-ACF7-31112CF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A2E4-4F8C-4B79-8604-5AC4CE9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82562-8631-485C-AC3A-F8ED7A0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1A1D-1F04-4C71-BBCD-EAB93FF1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B96A5-4689-4BE1-983B-9F0EC200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38BAC-8BCF-4181-A27A-154F7179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62FC7-8DFB-442D-AA43-CC0F8560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93E-4FF5-44FB-9C0D-970A0CDC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DD021-334F-4242-82E0-CA440147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56401-F7FB-4C29-88D0-0004901A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151E1-A18A-4548-87C3-7F465C1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6ED1-7D07-43CB-962D-51F868F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884DC-0920-41DD-B007-3E2C362D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24A38-318F-4806-8169-D366ABB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A7368-C394-4D3F-B2C9-19DCBEB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FDCEC-C2E3-4AE3-B992-5F368B5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3688A-C9A7-4D37-9F0F-06117313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A2FDA-B706-4DAE-807C-BE6F6920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E51-6631-4734-91FC-8291227A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7849B-2E8D-4D3B-B6A1-66E0CD83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CE7B0-A93C-477A-B723-F37ECEB2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90AD-F532-4AB0-AE2B-D67EA76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7D34A-88E9-4E51-9C8B-01490B1C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E75E8-FA5C-478C-B932-CAF6210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63C35-A9C4-4A17-9652-4672481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FBB6B-3C23-4129-9373-F8B6BEC9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D07A2-E3F5-45E1-92C9-624EE25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1C293-8E39-481E-B4C3-9F56FAC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F52C8-7713-4840-94C3-FB1F0CD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C014-7192-4031-AFC9-CC0A4A45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A2CA4-3FD1-4125-AE14-36C8EA1A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95F58-66AE-4538-A360-F982FA13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A3051-39BB-4FE1-982A-8E96E109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94FBD-D748-4EC0-9555-90B484B4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491F4-6770-4376-9EFC-1518451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64BFB-EA49-416C-9113-073314B5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328C4-076F-4B35-9363-D7B2E74C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7D600-7D0A-4DCC-B562-BA7D2413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9F0BD-9666-432F-AA40-4F3F606E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8AA8B-8D67-4A09-9797-3265264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043D-5588-469B-A05A-C20BC18B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46FD8-F3F7-421E-BF20-B8B2DC5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10E82-6AC8-48C8-A4C9-A154331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F2EBF-16FA-4E5E-B6A7-02DF1848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7FF2D-D9EC-43AC-83EC-FB98FAB0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E3BB-8365-4FE7-A71E-866FDB6E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030AB-E46A-43EA-AFF8-F949DC4C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8E89A-B6AF-4E93-A1BD-5CA4AAEC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34344-968A-4B7F-AB16-10C02EA2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7BB43-2A4B-49BD-8074-392DF90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589D4-E272-479D-846D-92A1753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6885-DF99-486A-AAA8-03583EC4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D4242-1D53-4AEF-8633-1265B33E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BF21D-B16B-48F7-91AD-D9AE259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D859B-F7D1-463E-9B53-EF7FF94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5446C-5BB6-40C6-9497-84A0F0D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73016-4D22-4BAC-818F-D472CFB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8100A-8D84-4FF9-8241-FD9AADD5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C76E3-B0E3-4B22-97BF-D3EF626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B7710-64AA-4555-98F0-8AAA9E18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1A7A9-8513-41A5-AAF9-958F2CB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3382E-5AF1-4358-9107-9FF39F1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90C-9B53-4487-B70D-FFD843B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E08A6-BA27-4765-9A7C-8E99EF25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0C5D6-3B50-4D0E-A68D-8E9D43D3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C1C66-6302-41D5-A77E-23B5A326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A20FC-FCA0-42A3-A722-FC1F7FE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0DC91-629D-4F44-8854-24B1B06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F26EE-CDB6-4CD3-9FB7-CB717912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3C598-EB59-4E9D-B96A-94635030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0A0AA-0462-4AA6-8945-2693816B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547AA-9033-4262-A955-49E5BCFB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14489-6225-4B17-AE28-F35C7A7A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9F3-2F6A-4461-929C-4AC3EF4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132AE-2AAE-4432-9CD8-D667A85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B6679-551F-48EA-988D-8FDAE1F5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58669-D1FC-4D5B-AF1B-2FAC403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CFD49-B323-44BD-9A06-430C807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F58F7-40AE-40B3-AD98-B9258001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FA243-80EF-4D14-B34C-05B453F2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03E07-63AD-412E-8E96-45362E3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614F3-86B8-4E4C-A09F-3BBA874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AFA07-32EA-4A71-805D-E3716A2E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4FB62-7CFB-47EE-87DA-95A5854F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E52-EB94-47B3-8CCB-61DD325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733F8-A0CB-420E-BCB3-D956EF5D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74A67-48B5-454E-86FA-AD35C729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D9C85-B833-4A08-9A37-C18F117C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FFBFF-7454-466B-B1B2-03DDED8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B1EB6-2B9D-4532-82B1-44ED7451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2910E-00CB-412C-BCF6-9406E798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2CE5E-AF9F-4472-9671-8BE58A8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761BF-740A-4C9F-A3C6-45AA9F0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A9BF6-4E2A-4A72-9EF2-0AAE590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F977E-912C-4A28-BAB7-B2D1A495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9B98-9556-4F58-9E23-11BD67C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D0482-38EF-4393-845F-1C01D0F6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45063-3D79-413E-8EAB-BC97DB48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B777C-D964-44B2-B681-223719C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A911C-440A-4FDC-BFF4-99E5FB18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0B0CB-5E4C-4EAD-AD7F-1474681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021D9-4DF9-4D5E-B124-F66226D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7C3A2-1000-45F3-8283-3B7E305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61AA4-849D-418D-BAF2-1D3318D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7D0C7-78BF-40DA-8A68-DD1853D1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2671D-C1A6-4303-9170-0D34DCC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D16-2200-4AF0-8349-13D02ED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D3F-AAD7-4217-919C-7D4C3B7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F0D75-5324-4AD9-80FB-ADE0718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8DC12-FB03-4736-9ABE-5FE150B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86369-2E3A-4EF6-831D-5C6834D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E34AA-8C19-4298-83FE-47872535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F15B6-3DFA-4088-858C-78E11F89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1074E-9D67-497A-8D51-AED58CBA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D7DB3-0D26-48BB-B32D-A1C0F13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921E7-CFF9-4FE0-BC68-77DC8BEC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D0B77-219B-45A1-8C2E-439653C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1627D-35CB-4736-8E2E-F8D5F68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8F0-631E-465B-A400-726DD49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4BCD5-3537-4EAC-A0BD-FA3167A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D229D-5C9B-4483-B265-6744195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3538C-51E5-4F02-8353-ADBFFA2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832B9-EEA0-4569-978C-5EAEE1F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F7828-2BEE-4D1A-A8CB-79486236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FAEA1-FA2B-404D-AC2A-569124DB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877A0-F09E-4269-AC89-34753592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E0874-177E-499C-B46A-0E9462F3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F05FF-FB0D-4361-B9F7-B7A361F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636BC-56F6-41F2-BD56-DDF35489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1C7-2473-4EFB-95A0-03913E3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6C6CB-C7A1-4CC1-8E36-3D8C00EA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72917-8084-4DC3-A5D8-C360D81F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CAED2-B2E6-465A-BEE3-5CD25FBE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34199-F1C0-4ACE-A44C-58B4624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7F6D9-4E85-45D8-ABA7-A8B57BB7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5129D-1D6E-4CAC-9302-6E8BEE3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FF4AD-3FF7-4237-9C0D-9309BE4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B8FC0-B3C8-4E81-A26B-713CFC26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D97FA-46D9-46B3-AD13-7826FDFC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DF109-ADFE-47D6-BF4F-7395B345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16FD-13A1-41FF-8C11-9E128A5C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9F895-156C-49F3-A054-15FFF3F4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3CA56-B471-49E6-9685-0A16850A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A0F23-DB0B-4487-84B7-972D8A4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47B2D-D953-4C89-9A8C-14985D0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3D112-B9C2-49B3-9961-7637F126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28E7F-FC63-41E4-9040-C039B72D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9C1092-FE0B-4B37-AF82-F1615FA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5973D-CC75-488A-8E56-8003B88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CEA3B-82F5-461B-B0B5-B44F788C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8EA16-E308-48AA-B53B-0A46B00D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0B3D-C3B8-481A-9C92-23F44752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EDB29-54F3-48C9-9D18-A61C0B63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C44F5-0643-48D8-AEC3-299B6AB0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F56EE-C770-4A9D-8401-3C262891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D6CBD-C572-4ADD-BF1E-1457C85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4E903C-43B9-43E1-A5FD-83D23068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C1EEB-A85B-4379-ABA3-0D9CDB68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CDFE0-5DB4-4A16-BD4F-DF06AFB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2F092-F140-40AB-8872-CA1A715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5CE5E-D4C7-409B-9F6A-EC6EE09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820E8-88E6-4D77-BA26-98A87AC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B374-9F21-4E04-86E5-A8F7E75A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34C4F-4445-4D97-ADFB-C600B0F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CF28E-29B2-477B-800F-8CFE2432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FB667-0145-468F-AE93-BADBFB0A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5BF3-ACD3-4F16-A64D-C51B849F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0D89-DAAC-4BC0-8BA1-617B9F82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C8D9-7C08-4A97-96FE-DC950B86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F955-9B27-47C6-A3AC-50C7A3C4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19E-0C75-4B10-8F48-C6CC68D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8B5A-8891-4112-9A74-ADBAAD03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E37D-1516-4456-A194-F50911E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5A32-F35B-4B8B-8890-95B1974A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77FD-E6ED-4281-83FA-62D15A4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6705-674D-45B1-B61D-7DD4101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1C7F-BF3E-4495-BD5C-2BC875B9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78C4-D61E-42CF-8F71-66412820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3A23-A9FF-41A6-8537-6593F705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96A4-2B35-42C8-90AA-181E5549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E60E-2594-4E93-9F76-8DB0AA1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6EE-68F0-4D29-B09B-A586F5E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7032-93B0-4CCC-8206-4085FF3E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4425-85AD-4A48-9EDA-0DA16F5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4342-7DC9-45E7-8B97-4A65817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2883-EDA8-4785-AB22-B103251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F82D2-5C9B-4ED5-8466-39ACA97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9032-E94B-4A34-87C7-31E8936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9760-84BC-4395-A143-92615F0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053D-CEB4-4964-AD28-207820E3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EACC9-418F-459B-8C0E-4A831025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3F61-F107-4598-A0A8-66564441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39E-B195-48F7-B3B1-9F1A255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456A-180F-449A-A80A-9C16DD22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80497-369D-46D4-AD2D-2394FB6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DAA8-3A6F-46FF-95EB-B20A4857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4080-809E-4BB7-8F98-5002097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9C6A-C2C8-4AAC-B506-15432C7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46A6-D837-4E08-9F74-34645CFC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0AD3-B0D4-45F2-AD13-15029E3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8EFA-FD09-4B36-B93E-F4EEBAD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1292-C87A-4ECD-A134-45D23BB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A73C-2B1F-4BDA-8464-D73F2A69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9A1-4ACA-4B74-8F7A-965DB5EB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2DD42-AA87-46EF-933D-2D3CBFFA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25CE-2B97-4480-9AD2-8253E16F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FC65-DC8C-41D6-8932-FD989F2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5304-E03B-4A66-A4C3-261950C8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0F101-0AFB-4CFB-9BFF-80742353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6B85-E2E5-4DF0-86DC-6853CE27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4600-F74C-420E-80F8-A5355137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C6FE-C3CE-436A-95F3-BD2F0F9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DA1C1-4C33-465A-AC47-CDE8DCD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6057-3D0C-4512-90CB-7AB53F4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E0B-606C-48FF-81EE-16E42F1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87C8-5FBD-461D-BE73-69BFEC37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049A-40B0-4D2D-94AE-3ECC88DE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7187-1FAA-4D32-9408-7697F14E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291C3-9208-49FE-BFB2-6C322568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A6D0-D2E1-474B-BBAE-B7A7BCC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4F19-4B06-4C76-BFB5-249B430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DE67-9C2B-4452-ABD5-CE9DA498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862E-B1E5-46B2-B656-24443B96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BCC2-A664-4893-A32F-045CF4C6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C92AD-799F-4941-8F18-9DD6E0E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80A-BF10-4F35-ADCA-8555795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ED42-566B-4A02-8F44-68C8FE78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3B9C-EA56-4232-B4BB-8E15A5C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C7C2-CA21-4E79-9F15-35E0FC9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1F00-01EC-4DBE-996A-D8E12796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B6867-78B4-43C9-B03D-A1876F7F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9050-C13C-493C-866A-A6CE437E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1FC22-4D5D-42E0-9EB9-94F587D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97570-7014-48D4-B4EE-BC988A0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A652-3E00-41F9-91BE-01038DD0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CC780-2586-494F-B905-762CE91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526-BBC2-451F-B605-1F8D9EE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C19C7-20AC-41A0-986F-24C33C6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8EAC-894A-496D-AEA5-AA6CD61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C0B7-29A6-40A8-9D37-3302269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0804A-04C8-4A34-9FAE-33CBD64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C0A3C-BA33-4BBA-993C-394718E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16DA-DD0B-4923-8A8C-C08CC7EF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76CAF-B16B-47CB-8B36-D09EB2C8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EF90-A92C-49D2-B056-87C7B4D8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94E23-2E45-43B8-BF81-EA9636A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BDEA-F4B4-4D05-9B9E-7109910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F5A7-4C6C-414F-92D8-5AA9C6F72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E3AB-250F-4552-8F9C-3418B0408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08AD-B3D7-4CEC-881C-CE518FF774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0E3-D1BF-42DF-A876-76F05BC3F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855B-91AE-4142-917D-B8EE28084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49B6-FDDA-4BEB-8017-D792A9D72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B78-D0BB-4537-8EB8-F6F90D6DE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1AE-B8C0-4D16-94AF-184283F041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E1A7-5CD0-48ED-9451-34776C8C3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AB2-09A4-47E8-B810-A1B946EC28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E778-7F7D-4CCB-A0EC-17D934872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0ADC-9105-4BE7-93C0-28687CA07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AE88-0D21-4756-B091-4B1353770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D32-403A-4F64-A14E-3A4CA8786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007-B1C8-423B-97E4-D69544B6BB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C16-C4F2-433C-9FD2-B4FF1959D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BD5-4722-4DFF-8968-96C8E3773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58F5-CC35-4A83-AA8D-CF74339AD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E400-CAE6-49C7-A15F-ADEA27CD95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5004-481C-4873-AB3F-035C95724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4ED-0228-4920-AF5E-0A345435F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83F-1FFD-4F8F-B941-F851AE6A2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9B4-0A18-40F3-9B73-85569B7C8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131-2BDC-414B-80A1-0197C9596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2C57-CFD9-41EC-9F84-43B58A9B4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208-F9A6-4A15-ABBC-A1F463998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ABD-1070-4BA5-890A-7CEAAE17C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961-25FB-4E55-B7C8-DC65A07BF1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9AB7-0065-40CD-995C-79D1ECBBC6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4EB4-E3EE-4EBA-9262-0FEBBFE0E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F8F-F86E-493F-B3B4-FE15047EA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8EC8-E285-4427-BF7E-841E99DC4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A47-F5B2-412B-843B-652B74F98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B2D-B567-454A-BFBF-425747E09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81F-0D9B-458F-A11B-48175F85CB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7F7F-569F-4DB5-B034-B8ACCFF5B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2AB4-A9D7-44D2-A283-0FF92A0D8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4E1-16C2-4020-A5D0-300D54DB4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9B6-B44D-4098-87E7-CBF617A12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F2BC-9F4E-45AB-B944-858DCCF25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5360" y="2933640"/>
            <a:ext cx="4553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1019160" y="1438200"/>
            <a:ext cx="7105680" cy="3981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826920" y="260820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55640" y="31845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55640" y="37893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684360" y="436572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611280" y="4941720"/>
            <a:ext cx="7993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8609" descr=""/>
          <p:cNvPicPr/>
          <p:nvPr/>
        </p:nvPicPr>
        <p:blipFill>
          <a:blip r:embed="rId1"/>
          <a:stretch/>
        </p:blipFill>
        <p:spPr>
          <a:xfrm>
            <a:off x="657360" y="2262240"/>
            <a:ext cx="7829280" cy="2333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806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7585" descr=""/>
          <p:cNvPicPr/>
          <p:nvPr/>
        </p:nvPicPr>
        <p:blipFill>
          <a:blip r:embed="rId1"/>
          <a:stretch/>
        </p:blipFill>
        <p:spPr>
          <a:xfrm>
            <a:off x="966960" y="1268280"/>
            <a:ext cx="7210080" cy="216216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7586" descr=""/>
          <p:cNvPicPr/>
          <p:nvPr/>
        </p:nvPicPr>
        <p:blipFill>
          <a:blip r:embed="rId2"/>
          <a:stretch/>
        </p:blipFill>
        <p:spPr>
          <a:xfrm>
            <a:off x="9360" y="3619440"/>
            <a:ext cx="9125280" cy="2257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572000" y="18018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596360" y="184464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572000" y="2421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236000" y="249228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1908000" y="42210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989600" y="422100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8416800" y="4221000"/>
            <a:ext cx="712800" cy="49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1936800" y="4797360"/>
            <a:ext cx="83484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5119560" y="47973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913520" y="4840200"/>
            <a:ext cx="93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47680" y="803160"/>
            <a:ext cx="8648640" cy="5505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580000" y="301140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796000" y="368784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508464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859280" y="508464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979640" y="5734080"/>
            <a:ext cx="115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71680" y="1380960"/>
            <a:ext cx="8001000" cy="4096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276720" y="142704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6156360" y="142704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1692360" y="2133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050920" y="4149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940360" y="4149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5508720" y="482616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90520" y="1347840"/>
            <a:ext cx="8562960" cy="4162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96360" y="2133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667640" y="3573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667640" y="48830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576360" y="1752480"/>
            <a:ext cx="7991280" cy="3353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380360" y="24354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380360" y="45226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85840" y="1709640"/>
            <a:ext cx="8572320" cy="3438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611280" y="387504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11280" y="459576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62080" y="1352520"/>
            <a:ext cx="8619840" cy="4152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55640" y="325584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84360" y="3803760"/>
            <a:ext cx="813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826920" y="4465800"/>
            <a:ext cx="81378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55640" y="5013360"/>
            <a:ext cx="81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309600" y="1271520"/>
            <a:ext cx="8524800" cy="4314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1160" y="719280"/>
            <a:ext cx="85816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7:4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